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2E4-FCD3-4424-A7DF-0A7A91E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EE6F-8699-4B64-9D36-44723E5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D1F35-E91D-4752-A585-03AABD8D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21587-EB9E-4473-97E3-7CB0F124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AE768-A0F3-498C-80E2-A67CCA14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EC1A8-9A89-441E-84DF-B7067C3D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E7C36-21D4-47D7-8976-A8371EAC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60BCD-FFB1-4DB1-BB53-17339EAF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2652D6-C46A-4829-B118-F1ECA1B0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33B16-E9F7-4350-A8C8-2907AF86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CEA37-2D64-4F60-BFE3-B220E31B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CFAC8-A6EF-49A1-8800-2B56FF19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020-A86D-4565-8382-E6754173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D54CD-5C35-473A-990C-6D3F4779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3A92C-9DFD-4A15-A3B3-0B84424A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CC01A-5FCC-44F7-99BB-F8E35D7D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014CF-9140-44C6-8892-8FF7624C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855AA-F41C-4A40-B421-E2D46D69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9082B-77D6-484F-AEE1-575FC828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4693C-F285-4068-9ABB-E25CFBF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FE065-5C9F-435A-A045-8B1D8A16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363E8-B41D-4584-8BF2-807644F9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44639-DDA2-4019-9577-381C9525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7A20-D21E-4F54-A4F4-CB9B884B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14E12-F22F-4D5B-A832-79041AB3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9543B-2D9A-4F76-A754-4B7295C6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7D226-A619-4603-97F6-0B6D6037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20D97-9133-4A93-A4AE-01002C77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9C18E-18FF-4990-9A37-28F44304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BB6D5-2549-4E43-B391-AF52BB06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5AD09-B5C3-4AAF-B9DA-0B29862A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AB5F2-0F1B-49A3-8DCB-9801C5B1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FC507-16AC-4E29-93DE-5CAC8D26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188A0-59E0-4674-855F-CEFBCF99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7312-FB65-4825-87A9-B3F945ED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D23DA-830C-47E0-8143-386F72C9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DD6B3-048D-4AEE-9836-D6C08CBB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E46C0-4880-45FD-B1A8-7306362E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5DBDB-2DC6-45DE-80D0-131D1114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F570A-0946-42E0-8616-2E425AE0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49C04-58C3-463F-BC8B-54A90ACA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770AA-8A87-4702-8C80-FB057687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8890D-E709-46DD-A990-EC73F89D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D48C1C-3A7B-497E-8E6B-6414C76B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58167-8F48-4931-B1C9-EBDE6B45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1B22D-0EE3-4DE2-ABC8-16BACCE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929DE-622E-4DCE-8132-C29DB81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150F2-C6D4-4F77-8798-1DB1373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C9FA6-8B30-4C99-B3AD-F14B4001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EA502-0AE8-457A-B25C-4A0D8D147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594A7-67ED-4E66-A012-EECA7383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CEA31-5C5B-4E33-A0A5-EE31E52A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B3CFAD-9576-4FE2-A795-8069104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3AA4F-E6A7-4946-B3C4-2563C9F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80B49-6DA6-4635-A0C1-A0768670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6A18D-29CF-4A4E-9855-C3038907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D112-0FAD-460B-B70D-80D10435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16BE8-8898-4463-883F-943E661F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201A8-75E6-4855-9D87-4F8D2DC8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BBC0A-84CE-4139-BCB5-1CD1020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C5EA6-B726-495D-AC1C-66D522DA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7473C-F0BD-4775-A7A0-DF624855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6C13F-CCBC-4305-ABDC-0D2CE796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A2770-5C7B-47B2-A06D-4E900710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F2815-21DB-4E6C-9684-93E1C9E4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6D176-6900-4C14-AC3E-D63485F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4F19A-0A13-43B2-8AE0-22DDC96E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28BB-6A1E-44D5-962A-0B45BB4F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44563C-E61B-47FF-97AC-F2B809BB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DC8DF-6C86-4DB4-9AFA-6E3FE7E2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94302E-1771-49DB-A1EA-1843C46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14ACC-DE36-405A-89F5-843CF3E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81022-46DB-4E36-B389-1C7F22DE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478B67-80EA-44AC-8F06-F4422321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A2015-0AD2-43E0-990E-C117A7A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66561-FF22-47D5-80F9-5305947A3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9324E-DFFB-4DF2-9A3D-158DFD55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EA1B6-51E1-4537-A3E6-91298D94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FE9E-61AE-4BDC-90C4-45B49752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F0957-1184-4DBC-8347-A334F3DB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D1D51A-884B-4D26-8A9D-4505E511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E894C-946E-48CE-AC00-3CFF24E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0DFDB-3961-4910-8A60-2239AEF7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49E3EC-881C-44A1-8BEE-A6D6596F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F9A0B-5B3E-4E02-A8CB-C5A5E262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8389B-6BDE-4BF1-9B02-80122CAD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676334-71DE-46D8-BCDE-12D7F676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95C91-3555-4ED9-B7EC-D77E5941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489DE-FBD8-412C-BCCF-9025624DF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9AEC-6307-4734-8B6D-759CD063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35D8A-BB21-481C-96FB-D6F4DBB4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CAB4A-ACEE-40DD-81BB-28ADAF70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5D079-A5E5-438D-A2E5-25F30AD8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37A6F-C152-483F-9A62-F2F1CEB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C8BF8-E9B2-461B-914B-3FB07F33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60CF2-EE5B-4CAF-B09E-7D27102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058A2-3437-48CF-A8A9-C30612B8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67FFB-E61C-40D9-8CA0-9B06E26A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62DB2-7CBE-4C3B-9683-948130C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233CE-7217-440C-8849-FD41298B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C1E1-8C0C-43A6-AFD8-F337676A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78F7BA-0DCF-445F-85DE-B612FF05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68ECB5-BBF6-49A3-B5CF-FC17A0A0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89E50-8C56-47AA-97E4-99BB4A93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03BF9-5D44-4C46-9DC2-8755713C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A9E1E-ABF8-416E-8BBA-67C95EB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FCBC3-4267-44BC-BEDF-E4D0BCC1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26B4A-FB88-4D08-89EE-EB75CB37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70265-8DC0-4FD8-8B8A-4F61BB0E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4E2D2-5C5A-4379-85C3-143AC5DC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47F48-012A-465B-B0E4-828FE1B9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5D5C-2265-473F-BD0B-D3B53CDF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360C-FED9-4505-9F6B-98C1B006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B3670-F9B7-4768-BAA3-8D9C4336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DE41B-4174-4C6C-AB4B-FAD21A9D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B4274-F16E-4196-AB95-49C8E227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DBCA7-95A6-4034-BC6E-B8589B7C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81E94-775D-44A6-AB6A-D0E5C847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943F7B-45E3-42A6-906C-2AD252E5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FEC8EB-A01D-46BA-B80D-DA26C808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E063A2-C254-4251-8967-5032F22F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2E2A54-56FB-4756-A09D-AA2CA717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115849-CF5F-430F-A33E-65104B0B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B743-13BA-4CFC-BD83-E1DE928F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41DD92-44DE-4600-AE00-8B049450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5498B-62B9-48F3-A16E-1838E63D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358A56-415A-4F0D-9DE3-568A1E9E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EBC18D-1D0E-449E-8A61-D8BF58FC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51349-8E07-49C0-93C0-44F507F5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E8DF04-0597-4053-8EF1-0D625AD9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01EEB4-3DBF-4DD9-B2A6-22ED2DBD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2C35A-CDF6-4D30-9895-E7343908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B07B6D-ED86-42AE-8E0C-5CE07E5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CB3265-8A8A-4047-B45E-A1BA7DA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7964-C2BA-43CD-9355-46E3E22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108001-4F9C-4C61-8EC3-E12A5A6C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E385D-78BB-4B86-BC0D-195EDDE4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F40CEC-1961-4300-9BC6-59D9DA7E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6D83FE-234A-4568-9420-D7BD0FEC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D79864-57FA-4384-BBA3-5BE505BA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07F9D-8C6B-48EB-B5EC-995729E3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C2D04A-9EA9-4930-BB84-56B02FBC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78E58-A57B-4076-BF8B-3224B4BD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5BE2B-655C-456D-963F-B420C98B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BDACB-445B-4702-8EB7-A7320DC5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EB27-BF6B-42CF-80C5-F779E422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7041D-281F-4FCE-8273-579DD939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A66E46-CB04-49E8-BCD3-CDCAE257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B0D71-D94A-4554-9ED4-53C312C8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E38D77-BA28-4DB4-9C83-517DC07B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CAF70-F76B-47B8-A484-9A42A236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A7E742-4004-4EDC-B487-472B5D34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47C6A-BEB7-41B4-98E2-B59FB053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DDCFF-CE73-41AA-BBD6-535DDA8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D590CB-945D-4D16-87F6-3780AB9E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EBFD2-5954-478D-96D9-38A6F641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88BE-D8FA-4162-83CF-FBEC1807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D0C4A-5483-4899-BC22-49130DD2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908931-FAC8-4A10-AF4E-D02CC95A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3387A-3E23-42FA-A8B0-A841578A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A1E506-8AB3-4FF4-89DA-865C4D05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9000D1-6D61-48B3-B82D-C650D62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6EA80-AFB4-4B0C-85E8-464142FB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705E3-402D-4177-B4C7-0DA4242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3F7F0-2511-4132-A328-1D452D0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DE81D1-3C0B-416C-8C32-4C2C916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5DF83-950F-411C-AFD5-D15075C1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4BB6-7F02-462A-8922-14916EE9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ED61D8-49A9-45B8-AA7F-85175FA4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D389DD-0C50-4263-B104-CFF5D937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894A0-0976-4345-8AB7-D3575B0C6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91DA2-C281-4CC5-B483-29CA2010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C28B7-0016-4333-8655-1DB9CDF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A970-B9FE-4DDC-9948-5FF325D4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AF3E-B54A-4EB3-AA78-57B38019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C849-7D66-493C-B226-69552CB8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B9EC-0924-4500-8AE1-0435D03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613FD-D7D7-4C7E-A8BF-7035C86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44992-EA1A-4503-8A38-674BB0A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C2BC-CCD4-47F9-A7A7-C361A933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71198-BE63-4088-918A-533EFEA9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16BAE-97E9-405D-B236-0E3CEDD0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C62D-3A02-4316-B4C1-5DE7258C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DC11-A961-4DDE-B672-678D545C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00059-A7DD-4D67-9BDB-E06709D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471F-1C33-44F2-A41C-4D78E9F6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8AB-B3E1-4FD0-B4B1-3EE804F2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D9A6-32AA-43B1-8C3D-6823D659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7C38-C3DB-4460-B0EA-2892FD60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786D0-00C7-43B2-95F1-506AF7C0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64FD-C14B-446A-8260-1BD06298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31E59-0838-4AE9-A68A-E57E31C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9F3A-3DEA-4DB6-8067-55542DC6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0E621-3BA6-463F-AB60-54DB8CE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D27A-BF1A-486F-981F-725CFE20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6822-B780-48E0-A949-70266171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6CBDC-AC0B-400E-913C-B6777442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308-A46E-4F7B-BDD2-2DB0654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49B07-6676-42F3-A5AB-E3049A26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B8F07-C6F2-4040-920F-6E221C3F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9F4DF-3544-41DD-9071-9BCC240B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6727-442C-49A3-A41E-960BAD7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C57E-94E2-4A6A-88B7-2A1A6FCA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504A0-9808-4E06-9DAB-3E61B3B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2E6AB-F7C9-4108-A862-D8FF264A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5D77-EA2A-4BC5-9D30-9A2D8BC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2CA88-CDF1-4C73-B7D9-03EBA269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F8F7-35CD-4D4B-8DA8-151FBACB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C606-8BAA-4530-9140-1E4A9939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CAAA4-08F1-4573-95E2-49DA8033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19EE1-123E-4945-B3D5-F973E563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4D067-78AC-49B1-8402-6BF9CD79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D78C-685C-44FE-BE1D-7322D670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0BB13-A24C-4EA6-923F-820DCE04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69C1C-6384-4675-A1B2-E25529B2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E0FF-5E6A-496B-B11C-FED14A4E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88AA2-14F7-4F5A-82BF-20E2216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7BBDF-B8FC-42A6-9658-933D4AC9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15F7-3CA0-4573-9D5B-2BA8BB9E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9C2-A1CE-428B-AEDF-BBDCB4F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EE142-F614-445C-A109-E4E94DA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3929B-ED02-47DC-9EB8-465D5241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544C5-7F55-41C5-8369-7E651971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AF7C4-8807-458E-B1F2-5EFF84A9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8088-2E61-48A5-96E2-496779A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1FD47-CCE5-4295-B48A-67551E4B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FAF51-E4DA-4B06-8B60-AC467214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6F283-0B18-46E3-9D34-14237F95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51AE-B447-4412-8A2B-859BD7CE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9FE02-C07F-4549-A369-A6F2BF3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684-DDE5-417B-9A5D-D2F8196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90970-9854-4BEC-9824-CE7A080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1F8CF-BD20-4EEB-B712-5CDEA328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93349-ED75-4000-A98C-37E2069C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DE750-0159-4DBA-A3B7-5877A301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A398-B551-476A-AE06-8A202C9C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E33F-7161-4479-800C-3272BD51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9F9C3-9D69-422B-8F82-0AB0435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167C8-88E2-465C-9CE0-733E7EF9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8730F-7B6E-4EF6-B127-B7666473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0C3B2-7C35-40AD-B976-02B2395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045-79D0-4621-921E-403FF692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628FD-4D21-4E80-B748-EE2F3C06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3820-968A-41B9-A966-0BAB2EB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29E3-F70C-4579-AF4C-6F1B474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F0985-A020-4CDE-9C74-7030D11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74C48-3225-4DB4-B0B5-86CB6970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F238-E09C-4320-9CE5-724FB07D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2E747-C3E0-4732-914A-4CC97EC4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1A6E9-EF00-4E63-9418-13A98874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8B25F-D936-4D81-B636-F40D928B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AD80B-2C8D-404A-9E13-F1951537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4945-7611-4A91-A151-6E70FF7B7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8DFC-67EC-4CB0-B453-BAAC97A3D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EF4-2DBE-4001-BA95-6FDF033A9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E975-5CB1-4F9F-9711-487AE063F4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F08B-D56F-4995-99D2-7CEAF7696E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0243-03AB-49E3-BB5B-322E97A8A1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686D-6770-41A5-9FB3-1D140F61EC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0BF4-6B95-4303-B0E9-164157E274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4083-9116-4B12-A2D5-D1A5C2545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F8A-3669-4D33-8D14-8ADE1EDC44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0DFB-5352-4755-9758-655CF231A8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3EEF-9F1B-45DB-9E53-FA6520A0B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77E-1B9A-412C-877F-B8F91F41A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D7E7-38CE-4CE1-87D0-86C7490C92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23C7-1E8E-478E-84B5-8E3A74BEEC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FDF5-7F94-4834-8915-BA7399BDD4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2586-6B81-4849-909C-E733E548F0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E853-7906-4308-A711-CCD4A808B0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B27F-ACF3-41C4-90E2-70994B3F4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6C04-161C-4C18-B416-6488ECFBFE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A075-49BF-4865-B7C2-386AB903B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B7D1-6A24-4238-AA56-F13B16E96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9C3-92A2-4866-B052-3DD180857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413-C695-49D1-8D6B-0AEB3D6CD0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9228-72A5-4367-8997-682E005327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C5D7-B367-49F2-9B98-1EE1412248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899B-D368-4A6D-8DFB-30F267622F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5F0C-F609-4947-A296-887184821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5C7-D8B6-4FB2-8D4C-0459070FF1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1E2D-5035-4DDE-83F3-2F93BC044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6AE0-E630-4091-9004-B001630886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125-A44D-4E73-A355-561CD324A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654F-E83D-4DBF-B7E7-DCE3B037B3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F3C2-4C06-4062-822D-1E014DB90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5538-C660-4266-99A9-C67C85AD2D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0A69-C124-47ED-8772-866D57A348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707D-9937-4B94-859B-168E696B03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572-8A3B-4691-A475-B06429AE12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E24B-1290-479D-A90F-D5A3F9928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500-4908-49AB-9614-67A91E99A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0360" y="3265560"/>
            <a:ext cx="838836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Picture 3" descr=""/>
          <p:cNvPicPr/>
          <p:nvPr/>
        </p:nvPicPr>
        <p:blipFill>
          <a:blip r:embed="rId1"/>
          <a:stretch/>
        </p:blipFill>
        <p:spPr>
          <a:xfrm>
            <a:off x="695160" y="774720"/>
            <a:ext cx="7753680" cy="60102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3" descr=""/>
          <p:cNvPicPr/>
          <p:nvPr/>
        </p:nvPicPr>
        <p:blipFill>
          <a:blip r:embed="rId2"/>
          <a:stretch/>
        </p:blipFill>
        <p:spPr>
          <a:xfrm>
            <a:off x="1547640" y="638172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3" descr=""/>
          <p:cNvPicPr/>
          <p:nvPr/>
        </p:nvPicPr>
        <p:blipFill>
          <a:blip r:embed="rId3"/>
          <a:stretch/>
        </p:blipFill>
        <p:spPr>
          <a:xfrm>
            <a:off x="5148360" y="63039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762120" y="1747800"/>
            <a:ext cx="7619760" cy="33624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928880" y="4286160"/>
            <a:ext cx="2381040" cy="7905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5643720" y="4214880"/>
            <a:ext cx="3000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1262160" y="1190520"/>
            <a:ext cx="6619680" cy="519120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1785960" y="2879640"/>
            <a:ext cx="2552760" cy="885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3"/>
          <a:stretch/>
        </p:blipFill>
        <p:spPr>
          <a:xfrm>
            <a:off x="5643720" y="2928960"/>
            <a:ext cx="2714400" cy="8380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" descr=""/>
          <p:cNvPicPr/>
          <p:nvPr/>
        </p:nvPicPr>
        <p:blipFill>
          <a:blip r:embed="rId4"/>
          <a:stretch/>
        </p:blipFill>
        <p:spPr>
          <a:xfrm>
            <a:off x="1785960" y="5572080"/>
            <a:ext cx="416232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77320" cy="5505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2"/>
          <a:stretch/>
        </p:blipFill>
        <p:spPr>
          <a:xfrm>
            <a:off x="1836720" y="1773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3"/>
          <a:stretch/>
        </p:blipFill>
        <p:spPr>
          <a:xfrm>
            <a:off x="1763640" y="2997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5"/>
          <a:stretch/>
        </p:blipFill>
        <p:spPr>
          <a:xfrm>
            <a:off x="1835280" y="537372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509760" y="1158840"/>
            <a:ext cx="8124480" cy="4934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1908000" y="315108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3564000" y="31417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2050920" y="554832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5"/>
          <a:stretch/>
        </p:blipFill>
        <p:spPr>
          <a:xfrm>
            <a:off x="3780000" y="55483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6"/>
          <a:stretch/>
        </p:blipFill>
        <p:spPr>
          <a:xfrm>
            <a:off x="5334120" y="5548320"/>
            <a:ext cx="100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Picture 1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419960" cy="3533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2" descr=""/>
          <p:cNvPicPr/>
          <p:nvPr/>
        </p:nvPicPr>
        <p:blipFill>
          <a:blip r:embed="rId2"/>
          <a:stretch/>
        </p:blipFill>
        <p:spPr>
          <a:xfrm>
            <a:off x="1020600" y="4867200"/>
            <a:ext cx="7296480" cy="16574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3"/>
          <a:stretch/>
        </p:blipFill>
        <p:spPr>
          <a:xfrm>
            <a:off x="1763640" y="22352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4"/>
          <a:stretch/>
        </p:blipFill>
        <p:spPr>
          <a:xfrm>
            <a:off x="3419640" y="22496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5"/>
          <a:stretch/>
        </p:blipFill>
        <p:spPr>
          <a:xfrm>
            <a:off x="5148360" y="22399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6"/>
          <a:stretch/>
        </p:blipFill>
        <p:spPr>
          <a:xfrm>
            <a:off x="1692360" y="3438360"/>
            <a:ext cx="1008000" cy="438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7"/>
          <a:stretch/>
        </p:blipFill>
        <p:spPr>
          <a:xfrm>
            <a:off x="3348000" y="345456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8"/>
          <a:stretch/>
        </p:blipFill>
        <p:spPr>
          <a:xfrm>
            <a:off x="5724360" y="345456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9"/>
          <a:stretch/>
        </p:blipFill>
        <p:spPr>
          <a:xfrm>
            <a:off x="1619280" y="544500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10"/>
          <a:stretch/>
        </p:blipFill>
        <p:spPr>
          <a:xfrm>
            <a:off x="3132000" y="544500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11"/>
          <a:stretch/>
        </p:blipFill>
        <p:spPr>
          <a:xfrm>
            <a:off x="5364000" y="5445000"/>
            <a:ext cx="144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12"/>
          <a:stretch/>
        </p:blipFill>
        <p:spPr>
          <a:xfrm>
            <a:off x="2556000" y="6035760"/>
            <a:ext cx="187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Picture 1" descr=""/>
          <p:cNvPicPr/>
          <p:nvPr/>
        </p:nvPicPr>
        <p:blipFill>
          <a:blip r:embed="rId1"/>
          <a:stretch/>
        </p:blipFill>
        <p:spPr>
          <a:xfrm>
            <a:off x="509760" y="1042920"/>
            <a:ext cx="8124480" cy="47721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3"/>
          <a:stretch/>
        </p:blipFill>
        <p:spPr>
          <a:xfrm>
            <a:off x="1692360" y="291924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4"/>
          <a:stretch/>
        </p:blipFill>
        <p:spPr>
          <a:xfrm>
            <a:off x="1763640" y="349560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5"/>
          <a:stretch/>
        </p:blipFill>
        <p:spPr>
          <a:xfrm>
            <a:off x="1763640" y="4653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952560" y="1681200"/>
            <a:ext cx="72388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Picture 1" descr=""/>
          <p:cNvPicPr/>
          <p:nvPr/>
        </p:nvPicPr>
        <p:blipFill>
          <a:blip r:embed="rId1"/>
          <a:stretch/>
        </p:blipFill>
        <p:spPr>
          <a:xfrm>
            <a:off x="528480" y="836640"/>
            <a:ext cx="80870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2:3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